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63A-5D5C-418C-994E-CEBEF584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7C5-E3C2-4A86-AEEE-2B93178A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A78E4-6B82-4580-AA25-345827FC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A65EB-F0FB-451D-BF91-DF5B360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42E1F-07E4-4846-B743-54FC8E1B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BF9DC-6F9E-42A5-A314-0453B68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447BC-A4E7-4093-8ED0-001134E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8DFFF-28C7-45A6-9E29-E6E0FD4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B38F7-9578-414C-9D05-7A4613CD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C15D6-D50E-41F5-9A39-EE7D64A2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9F361-E732-4BE5-8462-A302E091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3EA15-CAA8-4718-B04C-5E29C440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56B-CC6A-4DAF-A470-5197EFE6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EFA24-3771-47A7-B943-2BEDB49B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D623E-DF39-41BC-B6B6-88138AC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4A0BC-1FBA-4A02-A98D-4FA476A0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A4F5F-ED0A-4A25-B13C-FD431919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2EEE-A443-4041-8605-9B8B5038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722DD-DFCC-4FFD-AFB6-29E6E26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330D-E6D3-4B77-838C-E8E87ED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78E1A-BA2C-43B2-BC0E-75C237A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F18F4-C1BB-4790-B04B-02687AD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1B038-EB32-487D-9D56-C2BC8B4C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42A-63C9-4863-B803-54E1E134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656FD-711D-4834-BE1D-9E19B8A4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0D683-3446-4EC3-9C6F-E2E7F99B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4D9DE-B55A-4A19-B241-58F19E1A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8CD6B-1A56-45E6-A424-A94158F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602EF-2156-4489-BAAC-53CDB6D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62B6-18E9-4E3B-A5DD-7DA3826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EDE9C-34BF-4991-870D-8F6285F5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579B-641D-43B8-8728-D1AAF9B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1562F-A163-4B99-BFE4-A7F0420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3B732-B0FC-4F60-B195-99E078C7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835-C9ED-4262-AF1C-F7AC2DF6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E6E9D-9804-4507-AD78-0625478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F4114-DBB2-44AB-B3D5-4307F5E1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EE78C-C14D-4547-91D9-4F6E412B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3C853-2C97-4B16-970B-B3F020C7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B3ADA-3A8C-4D01-BBF2-42EAE176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A5F33-945D-45E7-B200-245FF962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0ACED-7287-41B3-8EFE-186B577A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8C32D-F03D-4EC7-A0E8-07D7341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3EABA-25B3-46A7-B40B-6ED607B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1744E-FD06-44B1-B5BD-39399E5F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F7D0-5F21-4051-A873-EDB2964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93E75-4ABC-4B1A-A51C-71E32CFA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A1EF5-082A-48EC-B806-C6721511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4AC6F-F75F-4200-8609-689775A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24FBC-A822-4568-A59A-9CD22BAA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1D95E-8475-4AFD-A69D-A5B5010F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922F1-587F-4E9B-8537-854FAAAE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BB46E-A5B1-4777-A412-8370CCEF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B1F63-E859-4C25-98E9-AAF4E5C9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D0347-7FFE-4E34-8789-2266D432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9DF57-DC40-4C02-A3E7-34B6E23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5BB8-4E02-46CB-9F8F-FA2DB93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F3FFA-D5CE-48E6-8A37-CD4E17AD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45437-39A9-45B2-8D64-3EDE080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C4463-BAB1-4AF7-AEDF-F26C7F4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BA631-14F7-426E-8A06-BC533FC2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7CF03-AF01-4331-AABA-1B19EC0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5A9FC-52F3-4D93-9A3A-DFF6C3E2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22C41-CB20-4528-82A7-DD1AABB1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14527-AB54-49E1-844F-5B604584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32C63-9A9F-45C3-B348-BD40FFBD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DDC7A-D3C6-48EB-9CA7-833F5EC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ABA5-CE7C-49B1-8FCB-744ADC4B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85BF5-FB3A-42D4-AA50-9F432713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61D75-3D0C-4399-AF9C-DD5319B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D8F64-B39C-4B70-913F-608C6A01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BAF98-CD0B-47CB-B756-AEB08721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2F9E9-DBE8-4BBF-9E4F-5278387E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E4885-322B-46FE-90A6-CCB140B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CD148-A0FF-47BE-9E4F-E7F6A2DE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89479-EDC3-4B62-9CB2-48697A9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8C516-12C3-44FB-9514-B98888CA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3D01E-69B9-47A0-B0EA-D903DB5F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4637-C6E4-4172-9AD2-EE3BE03F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02C94-2504-4E32-AC57-FD0686B3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A7A16-FF78-4477-8DDC-606F99F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7F023-41F2-40CB-B5BA-8EF50237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E9C63-F174-4AD4-AA4C-65CA2F86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DFDFB-10FF-4796-889F-0CDF5B84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E7D18-FD31-4C8E-A12E-78CCF84E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08927-0C32-4C8A-AB29-00218618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3A8D7-391E-4DDE-8E78-163475B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EF9DF-AC5A-4B6E-8399-D7C7FD3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9BC64-63F4-423F-A8D3-E49A712A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24DC-5B38-47E1-A840-B508CC9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2B6DD-6E18-4FB1-8711-FD1EE4D3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30E54-0EBD-4792-9CF0-FE62D089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F8252-825A-4E59-8CAB-D9DE9972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FFF2F-A228-4926-A655-443D74F3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B123C-3D05-416B-BD33-67DFEC85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AECCA-C856-443F-847F-5E3D5B0C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EBAB1-C189-4F52-BD11-D632E985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C5A96-46C0-41AB-987E-4141D70B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19EE0-E2DB-4320-A5DE-E56FC70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DA291-E58A-4F8F-AE25-2CA083E7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75CE-FE90-4030-A17D-754A87A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1D577-67BA-48D4-8B1D-DE56AC2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7A60E-5E75-4609-A7DA-6000FD7B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E6F16-B5A3-4D2C-897C-765D4543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65500-B4B5-4ECA-A374-C2635611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69873-B5BE-4D24-B563-C57E7654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52FD0-94A8-4295-97BD-A847522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5C678-8C39-43D7-8CF8-76F4A973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7E866-89BC-442E-BB32-5701A3AB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8EC9C-8C91-4E08-91A1-1FA2824E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38A48-46CC-4E2C-BBE3-F788F3A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797-84FC-4A68-8CC4-C3C326ED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F2BC-6C45-44D3-93E1-E7A16EC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BD6E0-0E98-4F38-BDC5-2997659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0152A-4D02-422C-9329-D3580C5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292C5-23BC-467F-A39D-38E772A3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3B733-6CE7-4582-9438-0168E07D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2D530-6CDC-4F25-9191-80F351E4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95B66-31DA-4F8D-BC51-3D172CA5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CC722-1A9D-4A69-9061-FE36213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F87CC-09D9-4398-96E0-CD9A317F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A9C79-6D69-45A3-B421-7195C9C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F481E-6416-46AE-A592-D15714EE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BDB9-20C1-447D-9F91-821D7EE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A0782-1642-471C-B17B-A62829B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959EF-11A8-498A-B5B1-D9CA5910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6B10D-0825-4B7E-A1C6-E3B830A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BA6AD-C371-409B-8CF6-7EAC3A0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5F21A-F117-46A3-B7E3-7A2DABD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2564E-D83B-4201-B4EF-3242925F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7A5B9-F318-40F0-A4E9-AFD9C939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1FBCE-A7D5-4FFB-82CE-B5F4850B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F4961-A6F4-4CC0-BE68-11435FD1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55682-F3F3-4A74-B431-00E3090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9491-1D71-4D52-958C-50BA693E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0D71D-CEE5-4F87-AE1B-2D9EB89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7A5529-897A-43FA-B196-8011C054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6971C-ABA8-47AB-BC7B-4F20DEC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AA286-D08A-4085-8EF7-AC6C66B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C0390-679E-4823-8F1A-EA494752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D9F58-C7FF-4687-8100-F644C6A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E5C3F0-E8C8-42F4-9D59-0DA2ACA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69478-52C3-4B3E-953B-2F253D28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ABA02-BA55-4D9E-9D4C-E6887392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EB4017-3165-49B0-8D23-264CD1E4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C03-81F1-445F-8619-9DF3E095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E15132-2171-490D-ABFA-64EB5A3F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B2E41-05F9-422D-AE8E-6BEBD17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E8CF3-5FF9-41C5-B306-F5419C7A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BF378-EE92-4CBC-A0E1-77D9152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1573C-63D0-4841-8483-5B912A61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E011A-7F75-4583-87F1-2B2D139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E5A2F-FEBF-46A5-918C-4A3A5F0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C8D82-930D-4896-894B-3F77224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09BDD-55F3-4297-BCF4-E3CE2D4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AB609-3937-4DBF-B1E3-9DB3450B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2AB8-FC98-4977-A012-90B230D9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B24D0-9E7B-4966-B7C3-287EFE0D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839C0-E7EF-4C45-8901-DD36F67F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2A34B-29BD-4D31-92C3-55AB4F1C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0EB51-9082-444B-A8D9-CC4833A3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B668F-35E5-4382-A3E4-49B9AD2D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84B069-D88E-40FE-A5A4-DF3AF8AC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2F275-3385-4F3A-BDC7-2190D6A8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F56CB-17AC-4B5E-91D3-53A664EE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4025A-1893-4A82-A83B-DE35B1F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6B074-50E4-4F33-B072-BFB173E3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780A-43A6-42F7-9359-4709980D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1B9B5-1384-4B25-A00B-E82A2DAF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17F0B-03B9-463D-BA52-BC484F21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F0640-0546-4410-BF33-F9D04806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D645-BFFE-45F1-A32A-FFBDC9F9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057A-733C-4C04-8230-A47A0F96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EA0E-5B63-42EC-AD77-BFC51C5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1C8CE-30EB-418F-BD60-A7F491A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2D4-0FDC-4DBA-B5C7-A9FA0BE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972D-9C5D-4417-819A-79E5E401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5873-FB5D-4D21-BFC9-6637075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FCC9-E935-4D71-965B-08C53528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F3D8-4CB4-46AC-B056-B20541BA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002B-0E33-4942-9651-548A4C3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2900-F25F-4A25-9689-AD94D7DC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A826-E64A-4AF0-9BAF-4FAA96D0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F26F-9709-43D3-B43D-2F383ACD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8741-B651-4572-9E42-559DE327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1734-A107-4C5E-ACD3-C15679EC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5AF-DB2E-42B4-A43D-E8323D5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1750-F2A9-440B-AC0C-790F6716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A7AD-E300-4BE7-8007-FD7556F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DF48-27F9-47E1-BEB7-0D0FA04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E737-BF4C-4815-893B-B06C263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A148-4EC0-4A92-9A6F-B597B98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40B5-D683-4EC8-9ED3-B7E8FE5D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4D67-5A9D-4AE4-AAA6-958E5805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E169-B3A2-45D0-A2B7-735F2C47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4E5B-5597-4DF1-8FF9-87623040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FCC1E-D9C9-4B8C-9958-12B5EAAB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B57-4329-4B4A-9FA7-6A6C0C26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08BF-5F33-45CD-82ED-8327946C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BB16-5D6A-4366-B223-E1096EF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1C27C-30A6-48B1-952F-319D47E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5262-18C7-4276-887D-AB56E64E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03B8E-4E3F-4EE7-A18D-5B43D72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A4A8-176E-4DD2-9D1B-218BFE9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2F54-6369-47C8-AAAF-03793A2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27C12-6482-4194-8CB1-4249C15A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79BA-A186-458B-94AA-FE5AFE5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9AF3-1360-4F0A-B13D-06494392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374-9C71-49C0-9D96-D578ADD8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8F674-38E7-4AC3-96A6-C8D16572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EB153-5EDA-447E-B32F-65B21DF9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9E6E0-0B1C-42FB-BFBE-21E9043B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5386-4A9B-47C1-9127-629C9530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92FB-691C-4605-A8DD-FC13183D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F778-5348-44B1-9EB6-77D87647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BB5AD-56D0-4D02-891F-7955D34C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5D07-12FF-425C-84B1-A2436EE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DD90-8A00-4529-A672-05775E58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28FF-1732-4652-8DBE-E00691C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734-2864-4C52-B18B-76DC3D5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D69BC-2678-45F7-B4BD-E587401A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9258-81F5-4D72-AD66-88D7AE74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40078-A591-4EB9-9991-ACADFC85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58EE3-0791-4731-BFC5-932DEB07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17AA-668D-4BC4-8D10-3FB56A8F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EFD8C-CFA1-4EF0-828C-F0BBF794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383D-5C95-47C7-A593-FDEE1E20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A7C42-BD5C-46F7-9943-23AA80DE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B3C12-AF58-489B-A75F-0E48CA1C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3A9D6-CFB7-4752-B592-4094AB6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ECA-01EF-448C-AE47-A9B6131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B2482-6DB5-4FD3-BB33-AFE6B64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AA15-6C6F-4DFC-830D-5D886239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A3613-15B9-4CD2-9701-185B1B12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203E0-640E-42F9-88DB-DC8A2C1A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F8738-60B5-498B-9622-2B059A34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C7F0E-0F44-48BB-B450-1088CB7F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33FF-E77E-4D9A-867D-347A851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6B7C-8DC4-4FC9-A09D-B83EB76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0514D-E205-42E1-A0E3-1D04A299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774A-7214-4308-8861-8260F684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9FE-AA5C-4D7D-86E8-1F524FE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C9B7D-2129-485C-A2D7-1E9DC176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FF0E3-6404-40EF-8823-912089F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5D1C-2F30-4D76-A3D7-BD03D292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5B4C8-B3EB-4DEC-87A9-0B55705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76B4B-04C8-4540-B099-C8A59DF7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5694F-B9F4-495C-8C6B-FA5100B6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420A-E057-4A4A-8DD3-A04AFE1F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FBD63-7ACD-4FD2-B122-AC499AEA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47AD0-EF01-435C-9308-F1CE284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73F2E-6F6B-4934-A34A-53F8527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413F-D8C1-4B43-A334-26176296A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74A2-D8CB-4C36-A616-7875B7E954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0218-AD40-4A0D-84B4-59B31FBBF8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590-1F28-434A-9B06-DEF528336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4DFA-6D29-43A3-BC27-3B2D21C139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052-6D5F-43D3-9FC1-3971A53E9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64BD-3729-4454-BF77-A4DC3469A4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A318-148E-4B82-86CD-9F89BD7DFA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9466-EC5E-4C5C-96F5-8F3657DE9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0008-E033-43FF-932F-E630A0925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DF4D-82B2-4243-BB3F-0DB45E540C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BAA3-5F89-4791-ADDD-DA50546B7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B75A-A313-41D2-BBC1-DA232A9248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B9E0-815D-4C5A-835C-35EDEB038C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506A-4561-4E17-9C54-D4B75093E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55AB-2ABF-43DE-8F19-3334813922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3B6-A8F6-42A8-B589-8E5405C0A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59D3-92E4-4BD4-A3F5-BA2F954A9C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912-472F-438D-94DA-CD47B211E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AA00-9451-4C9E-8186-F5E6855F6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CBB8-FCC4-4930-A8D5-FC06B6EA3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A0C7-AE94-491A-A4DA-AD7C4AD73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5A8-11A3-41EA-8E91-0AAAA24D3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C23-08CA-4730-ACCB-B2FF4C9633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FEFB-13AC-49B1-B291-6F35A08B9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C452-5509-4813-9D51-06DC6E05B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F96C-F8DC-41C3-9915-2B448B43D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DC0-25CA-43C8-BD49-17EF75BCC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174-A288-4EF9-AECF-E34854CBD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DDB0-1358-483B-945A-ECC109773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5FBA-8DA3-4F08-B029-9D7B2116A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88DD-C41B-4C97-B040-D77CFDFC4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8E7E-58E2-48E9-9D2E-909911DB63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55AC-2BEB-4F3E-8943-2125A86421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D14-7C72-4E93-872C-2FD1AA1EED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AF4E-9006-404D-9A16-088D1C171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E72-5AEA-431D-8660-0F96B30785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C516-3F99-4A80-969E-22BC26069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3B4-0769-48EE-B85C-5182FAF430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6B3-ACEF-4939-8FB9-E5965B53C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71720" y="2857680"/>
            <a:ext cx="7000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8" name="组合 4102"/>
          <p:cNvGrpSpPr/>
          <p:nvPr/>
        </p:nvGrpSpPr>
        <p:grpSpPr>
          <a:xfrm>
            <a:off x="539640" y="1052640"/>
            <a:ext cx="7704360" cy="4176720"/>
            <a:chOff x="539640" y="1052640"/>
            <a:chExt cx="7704360" cy="4176720"/>
          </a:xfrm>
        </p:grpSpPr>
        <p:pic>
          <p:nvPicPr>
            <p:cNvPr id="1029" name="图片 4100" descr=""/>
            <p:cNvPicPr/>
            <p:nvPr/>
          </p:nvPicPr>
          <p:blipFill>
            <a:blip r:embed="rId2"/>
            <a:stretch/>
          </p:blipFill>
          <p:spPr>
            <a:xfrm>
              <a:off x="539640" y="1052640"/>
              <a:ext cx="7248600" cy="36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1" descr=""/>
            <p:cNvPicPr/>
            <p:nvPr/>
          </p:nvPicPr>
          <p:blipFill>
            <a:blip r:embed="rId3"/>
            <a:stretch/>
          </p:blipFill>
          <p:spPr>
            <a:xfrm>
              <a:off x="7524720" y="3357720"/>
              <a:ext cx="719280" cy="18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4284720" y="3443400"/>
            <a:ext cx="143964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140360" y="4149720"/>
            <a:ext cx="143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36" name="组合 7173"/>
          <p:cNvGrpSpPr/>
          <p:nvPr/>
        </p:nvGrpSpPr>
        <p:grpSpPr>
          <a:xfrm>
            <a:off x="1979640" y="2254320"/>
            <a:ext cx="5391000" cy="2195280"/>
            <a:chOff x="1979640" y="2254320"/>
            <a:chExt cx="5391000" cy="2195280"/>
          </a:xfrm>
        </p:grpSpPr>
        <p:pic>
          <p:nvPicPr>
            <p:cNvPr id="1037" name="图片 7171" descr=""/>
            <p:cNvPicPr/>
            <p:nvPr/>
          </p:nvPicPr>
          <p:blipFill>
            <a:blip r:embed="rId2"/>
            <a:stretch/>
          </p:blipFill>
          <p:spPr>
            <a:xfrm>
              <a:off x="2050920" y="2254320"/>
              <a:ext cx="413388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图片 7172" descr=""/>
            <p:cNvPicPr/>
            <p:nvPr/>
          </p:nvPicPr>
          <p:blipFill>
            <a:blip r:embed="rId3"/>
            <a:stretch/>
          </p:blipFill>
          <p:spPr>
            <a:xfrm>
              <a:off x="1979640" y="3716280"/>
              <a:ext cx="5391000" cy="73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4140360" y="2276640"/>
            <a:ext cx="2447640" cy="4489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4500720" y="3040200"/>
            <a:ext cx="244764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5580000" y="3832200"/>
            <a:ext cx="244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45" name="组合 11268"/>
          <p:cNvGrpSpPr/>
          <p:nvPr/>
        </p:nvGrpSpPr>
        <p:grpSpPr>
          <a:xfrm>
            <a:off x="1300320" y="1052640"/>
            <a:ext cx="6543360" cy="4262400"/>
            <a:chOff x="1300320" y="1052640"/>
            <a:chExt cx="6543360" cy="4262400"/>
          </a:xfrm>
        </p:grpSpPr>
        <p:pic>
          <p:nvPicPr>
            <p:cNvPr id="1046" name="图片 11266" descr=""/>
            <p:cNvPicPr/>
            <p:nvPr/>
          </p:nvPicPr>
          <p:blipFill>
            <a:blip r:embed="rId2"/>
            <a:stretch/>
          </p:blipFill>
          <p:spPr>
            <a:xfrm>
              <a:off x="1300320" y="1052640"/>
              <a:ext cx="6543360" cy="27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图片 11267" descr=""/>
            <p:cNvPicPr/>
            <p:nvPr/>
          </p:nvPicPr>
          <p:blipFill>
            <a:blip r:embed="rId3"/>
            <a:stretch/>
          </p:blipFill>
          <p:spPr>
            <a:xfrm>
              <a:off x="1346040" y="3848040"/>
              <a:ext cx="6248520" cy="146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2411280" y="1801800"/>
            <a:ext cx="324036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3924360" y="2535120"/>
            <a:ext cx="41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2771640" y="3255840"/>
            <a:ext cx="41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3419640" y="4005360"/>
            <a:ext cx="41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3851280" y="4738680"/>
            <a:ext cx="417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10242" descr=""/>
          <p:cNvPicPr/>
          <p:nvPr/>
        </p:nvPicPr>
        <p:blipFill>
          <a:blip r:embed="rId2"/>
          <a:stretch/>
        </p:blipFill>
        <p:spPr>
          <a:xfrm>
            <a:off x="1428840" y="873000"/>
            <a:ext cx="6286320" cy="5724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3995640" y="231948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3851280" y="306864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5219640" y="378936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3348000" y="452268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3635280" y="524340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8"/>
          <a:stretch/>
        </p:blipFill>
        <p:spPr>
          <a:xfrm>
            <a:off x="3564000" y="5964120"/>
            <a:ext cx="23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9218" descr=""/>
          <p:cNvPicPr/>
          <p:nvPr/>
        </p:nvPicPr>
        <p:blipFill>
          <a:blip r:embed="rId2"/>
          <a:stretch/>
        </p:blipFill>
        <p:spPr>
          <a:xfrm>
            <a:off x="1857240" y="1257480"/>
            <a:ext cx="5429520" cy="4343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3419640" y="1370160"/>
            <a:ext cx="432108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3564000" y="2089080"/>
            <a:ext cx="432108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3564000" y="2824200"/>
            <a:ext cx="432108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6"/>
          <a:stretch/>
        </p:blipFill>
        <p:spPr>
          <a:xfrm>
            <a:off x="3708360" y="3573360"/>
            <a:ext cx="432108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7"/>
          <a:stretch/>
        </p:blipFill>
        <p:spPr>
          <a:xfrm>
            <a:off x="3851280" y="4307040"/>
            <a:ext cx="432108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8"/>
          <a:stretch/>
        </p:blipFill>
        <p:spPr>
          <a:xfrm>
            <a:off x="3419640" y="5027760"/>
            <a:ext cx="432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8194" descr=""/>
          <p:cNvPicPr/>
          <p:nvPr/>
        </p:nvPicPr>
        <p:blipFill>
          <a:blip r:embed="rId2"/>
          <a:stretch/>
        </p:blipFill>
        <p:spPr>
          <a:xfrm>
            <a:off x="1866960" y="1233360"/>
            <a:ext cx="5410080" cy="4391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34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4140360" y="2060640"/>
            <a:ext cx="34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3924360" y="2795760"/>
            <a:ext cx="3456000" cy="4489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3708360" y="3530520"/>
            <a:ext cx="34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7"/>
          <a:stretch/>
        </p:blipFill>
        <p:spPr>
          <a:xfrm>
            <a:off x="3851280" y="4264200"/>
            <a:ext cx="3456000" cy="4489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8"/>
          <a:stretch/>
        </p:blipFill>
        <p:spPr>
          <a:xfrm>
            <a:off x="4932360" y="4984920"/>
            <a:ext cx="34560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71280" y="1355760"/>
            <a:ext cx="89712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8" name="图片 1" descr=""/>
          <p:cNvPicPr/>
          <p:nvPr/>
        </p:nvPicPr>
        <p:blipFill>
          <a:blip r:embed="rId1"/>
          <a:stretch/>
        </p:blipFill>
        <p:spPr>
          <a:xfrm>
            <a:off x="28440" y="2311560"/>
            <a:ext cx="9002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4:2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